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breez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142-E9E8-4443-A8E3-48856CA1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4D0-2640-4C71-AACC-F249CF56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811-55E2-43E7-97AC-DF5F2313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3A3-D991-482E-8708-F0707E36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C09-99E8-4F30-A3BC-101FCE4C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4A2-84D3-4397-9726-FC882C09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98D-814C-4CE1-8D39-C6C2F0F1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1D0-4099-4462-A731-23F1F609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FA8-F1EB-44B5-92C2-7CE5C41F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06B-7323-4B14-AD17-10796942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198-EA24-4F1A-B376-D1F3E90D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29D-B345-4F1C-AD9B-D054B28C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7E7D-0E6D-4FE6-8BC9-B653B47491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彩云"/>
              </a:rPr>
              <a:t>考  前  叮  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贝多芬的灵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一次，在利西诺夫斯基公爵的庄园里，来了几位“尊贵”的客人。这几个不是别人，正是侵占了维也纳的拿破仑军官。公爵为了取悦这几位来宾，便非常客气地请求贝多芬为客人们演奏一曲。但贝多芬断然地拒绝了。当公爵由请求转为要求的时候，贝多芬愤怒到了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86440" y="-5395320"/>
            <a:ext cx="206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-3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他一声不响，猛地推开客厅的门，在倾盆大雨中愤然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回到住处，他把利西诺夫斯基公爵给他的胸像摔了个粉碎，并写了一封信：公爵，你所以成为一个公爵，只是由于偶然的出身；而我之所以成为贝多芬，完全是靠我自己。公爵现在有的是，将来也有的是，而贝多芬只有一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正如贝多芬所言，由于偶然的出身，这个世界上的确有过无数的公爵。然而，历史最公正，时光最无情，当这些显赫一时的公爵一个个都灰飞烟灭，消失在历史的长河中时，贝多芬却没有从人们的记忆中消失。贝多芬没有高贵的出身，却有不朽的作品，正是它们，为贝多芬赢得了无尚的荣誉。要知道人民首肯的永远是那些让他们心悦诚服的高贵的灵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可放弃的努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在由失败通往胜利的征途上有道河，那道河叫放弃；在由失败通往胜利的征途上有座桥，那座桥叫努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自古希腊以来，人们一直试图达到４分钟跑完１英里的目标。人们为了达到这个目标，曾让狮子追赶奔跑者，也曾喝过真正的虎奶，但是都没实现４分钟跑完１英里的目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604000" y="-5121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于是，许许多多的医生、教练员和运动员断言：要人在４分钟内跑完１英里的路程，那是绝不可能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因为，我们的骨骼结构不对头，肺活量不够，风的阻力又太大，理由实在很多很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然而，有一个人首先开创了４分钟跑完１英里的纪录，证明了许许多多的医生、教练员和运动员都断言错了。这个人就是罗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班尼斯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更令人惊叹的是，一马当先，引来了万马奔腾。在此之后的一年，又有３００名运动员在４分钟内跑完了１英里的路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训练技术并没有重大突破，人类的骨骼结构也没有突然改善，数十年前被认为是根本不可能的事情，为什么变成了可能的事情是因为有人没有放弃努力，是因为有了榜样的力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走的都是下坡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位农民朋友曾给我讲述了段他自己的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那天，我拖着沉甸甸的板车疲惫地来到了山脚下。望着前面那一段长长的上坡路，我不禁畏而却步。心想，今天靠自己一个人绝对拉不上去了，肯定得有人帮一把才行正在为难之际，正巧过来了一个热心的路人。他看出了我的窘境，对我说：“没关系，我来帮你。”说着，便利落地卷起袖子，拉开一副推车的架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686440" y="-5193000"/>
            <a:ext cx="206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于是，我就咬紧牙使劲地拉车。在热心人“加油，加油”的鼓劲声中，我们终于将车拉到了坡顶。当我感谢热心人的鼎力相助时，没想到他却说：“你用不着感谢我。这两天我的腰扭伤了，根本就不能用劲。我只是喊喊‘加油’而已。能将这趟车拉上去，全靠的是你自己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农民朋友的故事不禁使我联想到，人生之路不也同样是如此一位名人曾说：“容易走的都是下坡路。”人生之路并非一马平川，并非无须费劲就能轻松前行。许多时候，正是由于我们放弃了努力，便白白地错失了成功的良机。结果便是半途而废，无功而返。  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班 主 任 寄 语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临别之际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身为老师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无以为赠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就赠你们几句话吧</a:t>
            </a: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有一种爱叫严厉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是不想温柔的对你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因你面对的世界太复杂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性弱点太多，老师希望你们每一个人都能出息！再出息！！！你能理解和原谅老师吗？我的同学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考前叮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位同学要牢记，一看二审三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拿到试卷别慌忙，首先看有多少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查试卷齐全否，前后页码看仔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题记号搞明确，单选多选莫麻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铃声未响不许做，不妨用手作标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多时少巧安排，先易后难细审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解题突破口，选对选错莫岔题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班 主 任 寄 语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心态决定成败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论何时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论何地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希望你们能拥抱生活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能用一种积极的心态去面对人生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永不言败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坚持到底就是胜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宽容别人就是宽容自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是你能够快乐的源泉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也是你能与他人和谐相处秘诀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班 主 任 寄 语（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,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努力去做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才能拥有属于自己的人生，寻找到自己的立身之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永远不要轻视自己的努力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成功是做出来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做成功的过程当中还的诸如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细节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规律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要获得食物，就必须不停地奔跑………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班 主 任 寄 语（四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学会用爱去看待社会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做一个有爱心的人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一颗感恩的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去看待周围的人和事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感恩父母、感恩师长、感恩同学、感恩所有的人、感恩……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24000" y="-15084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333360"/>
            <a:ext cx="7416720" cy="82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希望同学们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以百倍的信心，　　　　　　　　　　　　昂扬的斗志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拥抱高考！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8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39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907920"/>
            <a:ext cx="7850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希望同学们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行楷"/>
              </a:rPr>
              <a:t>以顽强的毅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行楷"/>
              </a:rPr>
              <a:t>拼搏的精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行楷"/>
              </a:rPr>
              <a:t>迎战高考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7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9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86800" y="-53953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-36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ff"/>
                </a:solidFill>
                <a:latin typeface="Arial"/>
                <a:ea typeface="黑体"/>
              </a:rPr>
              <a:t>祝愿同学们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ff"/>
                </a:solidFill>
                <a:latin typeface="Arial"/>
                <a:ea typeface="黑体"/>
              </a:rPr>
              <a:t>旗开得胜！马到成功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  <a:ea typeface="华文行楷"/>
              </a:rPr>
              <a:t>　　　　　　　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黑体"/>
              </a:rPr>
              <a:t>２００６年６月４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6197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4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95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indefinite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8" dur="indefinite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99" dur="indefinite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indefinite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02" dur="indefinite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3" dur="indefinite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indefinite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06" dur="indefinite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7" dur="indefinite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考前叮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键字词要抓稳，文字书写要麻利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专用名词切莫错，代号符号要规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是碰上栏路虎，一时半刻想不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如暂时放一边，先做把握最大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选填空和推断，一般没有大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遇到多选组合判，千万小心别轻敌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争做到稳准狠，一次成功最省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考前叮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时兴新情境，变换花样考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类多是纸老虎，故弄玄虚吓唬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先安慰你自己：没有什么了不起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懂题目玄机现，顺藤摸瓜不费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数计算可巧解：画出流程找关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形方程分整体，寻找捷径来解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题最后来攻克，信心百倍难变易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考前叮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多数不够用，千万不要干着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先扫清空白点，连猜带估写上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选若是拿不准，只填一个保险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写几步是几步，多得一分压一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考一科接一科，出了考场别再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论对答猜分数，考试期间不可取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1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考前叮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有这些闲功夫，不如睡觉养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试往往靠发挥，技巧用活出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理素质很重要，劝君安慰好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人劝告是外因，关键还靠你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长老师在祈祷，祝愿你们创奇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9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4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5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0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1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6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7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2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3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1125360"/>
            <a:ext cx="770400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3300"/>
                </a:solidFill>
                <a:latin typeface="Arial"/>
                <a:ea typeface="楷体_GB2312"/>
              </a:rPr>
              <a:t>其实你不懂我的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江苏省运河中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　　　　　　　陈锋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楷体_GB2312"/>
              </a:rPr>
              <a:t>２００６、６、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让我们来一起思考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诗歌：《鸟笼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鸟      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打开笼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让鸟儿飞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把自由还给鸟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贝多芬的灵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１８世纪末的维也纳，是音乐气氛最浓的城市。在显赫贵族的客厅里，音乐表演成了一件高尚和时髦的事。所以贝多芬也就经常处在贵族及拥有各种头衔人物的包围之中，可他总是高高昂起他那狮子般粗犷的大头颅，从不献媚于任何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主题班会课件(分28大类): http://shop62905894.taobao.com</cp:keywords>
  <dc:language>en-US</dc:language>
  <cp:lastModifiedBy>User</cp:lastModifiedBy>
  <dcterms:modified xsi:type="dcterms:W3CDTF">2013-04-13T15:09:08Z</dcterms:modified>
  <cp:revision>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